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651-DC94-48B7-8C70-17DB3B185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ystem of moral principles or standards governing conduct.  It centers around respect for the needs and rights of other people.  Ethics provides guidelines for acceptable behavior.  Ethical behavior is a goal to be achieved requiring constant eff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fessions have a “Code of Ethics” or well defined rules and standards governing the conduct of all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ppocrates, a Greek physician of th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ies, B.C., wrote one of the first medical codes of ethics, the Hippocratic Oath.  This oath is still used by some medical schools at graduation exer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lden Rule is one of the most basic and useful ethical the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ucius – “What you do not want done to yourself, do not do to oth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us – “As you would have others do to you, do to them likewis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368-3FC4-4945-96A5-1B8240E5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BF2-0E02-494F-A396-D6A6DA31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60B-476F-4C4F-82B6-2387AE8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385-6F6F-477F-8D79-829FA55B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C518-A0F9-4B5F-92B4-3E9D72DF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6D0-3A99-4C21-830E-72375980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37B-2C02-44F1-BDCE-C3D9BD60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253-3C2E-44BD-B671-4DB8F32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5CF5-0F2C-4E54-BE0E-9B0A37CB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F934-865E-4CF3-AE7A-5751EB4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6E99-395D-499A-8661-B535F93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31C-871E-4E3B-A78F-4F158099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11E9-31A8-4F11-A08F-828799BC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F616-9786-4A1C-87B7-D0897E4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7A59-4CBF-491A-BC16-5AC29107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588-26A6-4524-977B-30E8539F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5CF-AF6F-4740-9646-A834F6A0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57D-C644-4A52-BF30-3F9EB75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810-1688-487F-BC99-E448EA4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ACF-3967-4362-8FA7-182639D9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F02-D373-4B47-9AC6-01CD359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CBC-F227-4853-AAB8-F394798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492-89E7-4098-B37D-0E69DB9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278-B8F9-4319-AE16-8EE52A0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B810-7150-42BF-8814-228795AAE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049E-6C50-49C2-A327-9CF5ACD4B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75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thical Decision Ma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46160"/>
            <a:ext cx="856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through the ethical dilemma and identify all components as objectively as pos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your o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de which option is the most ethic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the option be implemen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onsequences of your deci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personal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8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Personnel are expected to treat others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 – implies honoring another person’s beliefs and opin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ity – the unwavering adherence to one’s prin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nesty – the quality of truthfulness, no matter what the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-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48520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ness – treating everyone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 – the ability to understand the feelings of others without actually experiencing their pain or di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ssion – the ability to have a gentle, caring attitude toward patients and fellow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yalty – a sense of faithfulness or commitment to a person or persons.  Employers expect loyalty from their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thics is the study of right and wrong, based on moral law. 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Development of the Medical 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5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pocrates-Hippocratic O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olden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ucius (500 B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(30 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1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mary goal of the health care worker is to promote an optimal level of wellness, preserve life, and provide for a peaceful death when nece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lthcare work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s  the religious beliefs and cultural values of all cl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dequate and continuous care for all clients regardless of age, gender, race, or nature of the illness or inj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s the limits of practice for which he or she is competent and stays within those limi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competence and current knowledge by pursuing continuing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jurisprudent behavior at all times by avoiding unethical or illegal practi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s the dignity and rights of each client by maintaining confidentiality and a professional attitude regarding all information relating to the cli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s for clarification and assistance when unsure of any aspect of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es in professional activities and organizations to provide better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a high standard of ethical and legal behavior in his or her private as well as professional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5 Cornerston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6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hat you say you will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divulge information given to you in 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 responsibility for your mista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become involved in a 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ccepting gifts that compromise your ability to perform in the best interests of the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is it important to use ethical behavio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ical behavior establishes t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thical behavior leads to organizational dys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thical behavior creates a public out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thical behavior could create a personal moral dilem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6:55:13Z</dcterms:created>
  <dc:creator>COE User</dc:creator>
  <dc:description/>
  <dc:language>en-US</dc:language>
  <cp:lastModifiedBy>System Admin</cp:lastModifiedBy>
  <dcterms:modified xsi:type="dcterms:W3CDTF">2009-08-31T11:59:10Z</dcterms:modified>
  <cp:revision>12</cp:revision>
  <dc:subject/>
  <dc:title>CODE OF ETHICS</dc:title>
</cp:coreProperties>
</file>